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8C44-55B8-458F-BD19-C771D6CC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7E9-2153-4049-8B9B-26D0E44A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0804-CC72-43B8-AC54-08D8B082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A89E-67AD-4383-A06A-46EF0347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FBC4-9C96-4A46-A046-9D5D141C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554-A71B-4BAE-A4A5-0494B15F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B14-3E8A-4127-9808-3F52B02D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4A9-B6F0-4C8B-82B4-CB7F7738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8374-3F77-41AF-BF64-A3217FA4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EBB-6F2C-41D4-9B58-7DB1683D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71D-F157-4F40-A60E-3664F376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3A4-5B36-4448-99F9-42D217D7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C4FC-4504-4C4A-8561-3F8BE1DCB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7619760" cy="5715000"/>
          </a:xfrm>
          <a:prstGeom prst="bevel">
            <a:avLst>
              <a:gd name="adj" fmla="val 1250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172200" cy="4232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21:58:22Z</dcterms:created>
  <dc:creator>dwielgus</dc:creator>
  <dc:description/>
  <dc:language>en-US</dc:language>
  <cp:lastModifiedBy>SDW</cp:lastModifiedBy>
  <dcterms:modified xsi:type="dcterms:W3CDTF">2010-11-02T20:34:09Z</dcterms:modified>
  <cp:revision>3</cp:revision>
  <dc:subject/>
  <dc:title>Slide 1</dc:title>
</cp:coreProperties>
</file>